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3.pct" ContentType="image/x-pict"/>
  <Override PartName="/ppt/media/image9.png" ContentType="image/png"/>
  <Override PartName="/ppt/media/image16.png" ContentType="image/png"/>
  <Override PartName="/ppt/media/image14.pct" ContentType="image/x-pict"/>
  <Override PartName="/ppt/media/image1.png" ContentType="image/png"/>
  <Override PartName="/ppt/media/image2.pct" ContentType="image/x-pict"/>
  <Override PartName="/ppt/media/image5.png" ContentType="image/png"/>
  <Override PartName="/ppt/media/image8.pct" ContentType="image/x-pict"/>
  <Override PartName="/ppt/media/image10.png" ContentType="image/png"/>
  <Override PartName="/ppt/media/image17.pct" ContentType="image/x-pict"/>
  <Override PartName="/ppt/media/image6.png" ContentType="image/png"/>
  <Override PartName="/ppt/media/image12.jpeg" ContentType="image/jpeg"/>
  <Override PartName="/ppt/media/image15.pct" ContentType="image/x-pict"/>
  <Override PartName="/ppt/media/image4.png" ContentType="image/png"/>
  <Override PartName="/ppt/media/image13.jpeg" ContentType="image/jpeg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2A84-B455-4B94-BB49-9D6BD278FC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6B45-9A81-4D93-827F-10076A214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9B54-B14F-491B-9DC3-01EB47FC4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33E-07C9-4096-878E-DB1E14C2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C18-D85C-437B-B646-D7CF0B8C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7F1-F32D-4873-8F3F-7CD14DC7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970-D691-49AB-8F85-5D6864CD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9AD-116E-4028-9A30-4E5D9F79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5CB-4DA9-44A4-8D81-569BBBF4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703-98E5-4995-92C3-CD52FF39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EA1-2EBB-42BA-B364-F8D7AD3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81F-274D-4C18-A636-9C5195FC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99B-B34B-4628-B374-170CEDA4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9C2-0BF7-4DE9-A28B-44DCC204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3B7-98C4-49FB-A446-40541644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zona K-12 Center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39E2-E3E7-478F-A378-AB683C00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250659"/>
          <p:cNvPicPr/>
          <p:nvPr/>
        </p:nvPicPr>
        <p:blipFill>
          <a:blip r:embed="rId2"/>
          <a:stretch/>
        </p:blipFill>
        <p:spPr>
          <a:xfrm>
            <a:off x="5562720" y="3352680"/>
            <a:ext cx="1523880" cy="123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Cj03970480000[1]"/>
          <p:cNvPicPr/>
          <p:nvPr/>
        </p:nvPicPr>
        <p:blipFill>
          <a:blip r:embed="rId3"/>
          <a:stretch/>
        </p:blipFill>
        <p:spPr>
          <a:xfrm>
            <a:off x="1828800" y="3200400"/>
            <a:ext cx="1481040" cy="1477800"/>
          </a:xfrm>
          <a:prstGeom prst="rect">
            <a:avLst/>
          </a:prstGeom>
          <a:ln w="0">
            <a:noFill/>
          </a:ln>
        </p:spPr>
      </p:pic>
      <p:sp>
        <p:nvSpPr>
          <p:cNvPr id="53" name="Left-Right Arrow 13"/>
          <p:cNvSpPr/>
          <p:nvPr/>
        </p:nvSpPr>
        <p:spPr>
          <a:xfrm rot="10800000">
            <a:off x="3733560" y="3580920"/>
            <a:ext cx="1447560" cy="63684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g Ideas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72C7-3918-46C4-AFBE-7D9B8986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can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DC80-942C-4579-94D9-52153162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can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9D20-028F-4CBE-A625-7D4499FC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can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421C-E96D-4CBE-9C5D-CE5A0CF38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838080" y="1828800"/>
            <a:ext cx="678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f by 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introduction on page 1 along with 3 paragraphs on p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92F4-D3CF-4831-953A-72B94E063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Reading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1600200"/>
          <a:ext cx="7543800" cy="3370320"/>
        </p:xfrm>
        <a:graphic>
          <a:graphicData uri="http://schemas.openxmlformats.org/drawingml/2006/table">
            <a:tbl>
              <a:tblPr/>
              <a:tblGrid>
                <a:gridCol w="1447560"/>
                <a:gridCol w="3581640"/>
                <a:gridCol w="25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Numbered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P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System, Order and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Evidence, Models and Expla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Change, Constancy and Measu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Evolution and 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Form and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iley Sans ITC Book"/>
                          <a:ea typeface="Bailey Sans IT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5a929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EF6-C041-419D-8823-E4A77B779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mmary of th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743200" cy="22352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5"/>
          <p:cNvSpPr/>
          <p:nvPr/>
        </p:nvSpPr>
        <p:spPr>
          <a:xfrm>
            <a:off x="2057400" y="4648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Summarize the key ideas on chart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C59-E201-4CF4-BD71-B8A48F2A1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afting a Unifying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600200" y="3352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raft a matchbook definition of 10-12 words capturing the key elements of </a:t>
            </a:r>
            <a:r>
              <a:rPr b="0" i="1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your Big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e prepared to share with the who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mknuck\Local Settings\Temporary Internet Files\Content.IE5\SL4CNW5K\MCj03511960000[1].wmf"/>
          <p:cNvPicPr/>
          <p:nvPr/>
        </p:nvPicPr>
        <p:blipFill>
          <a:blip r:embed="rId2"/>
          <a:stretch/>
        </p:blipFill>
        <p:spPr>
          <a:xfrm>
            <a:off x="3505320" y="2057400"/>
            <a:ext cx="1371600" cy="99864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DC22-6EA4-4E2F-BF20-72B9E62F2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457200" y="380880"/>
            <a:ext cx="8305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xtBox 15" descr=""/>
          <p:cNvPicPr/>
          <p:nvPr/>
        </p:nvPicPr>
        <p:blipFill>
          <a:blip r:embed="rId2"/>
          <a:stretch/>
        </p:blipFill>
        <p:spPr>
          <a:xfrm>
            <a:off x="1822320" y="1822320"/>
            <a:ext cx="5346720" cy="318312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F584-E27D-4F61-8DA1-77E31E09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50840"/>
          <a:ext cx="8229600" cy="6402240"/>
        </p:xfrm>
        <a:graphic>
          <a:graphicData uri="http://schemas.openxmlformats.org/drawingml/2006/table">
            <a:tbl>
              <a:tblPr/>
              <a:tblGrid>
                <a:gridCol w="219600"/>
                <a:gridCol w="2388960"/>
                <a:gridCol w="2571120"/>
                <a:gridCol w="3049920"/>
              </a:tblGrid>
              <a:tr h="1593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and Space Scie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2576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8904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93720"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1800" rIns="91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pSp>
        <p:nvGrpSpPr>
          <p:cNvPr id="136" name="Group 23"/>
          <p:cNvGrpSpPr/>
          <p:nvPr/>
        </p:nvGrpSpPr>
        <p:grpSpPr>
          <a:xfrm>
            <a:off x="203040" y="2924280"/>
            <a:ext cx="8407080" cy="1169640"/>
            <a:chOff x="203040" y="2924280"/>
            <a:chExt cx="8407080" cy="1169640"/>
          </a:xfrm>
        </p:grpSpPr>
        <p:grpSp>
          <p:nvGrpSpPr>
            <p:cNvPr id="137" name="Group 35"/>
            <p:cNvGrpSpPr/>
            <p:nvPr/>
          </p:nvGrpSpPr>
          <p:grpSpPr>
            <a:xfrm>
              <a:off x="203040" y="2924280"/>
              <a:ext cx="8407080" cy="1169640"/>
              <a:chOff x="203040" y="2924280"/>
              <a:chExt cx="8407080" cy="1169640"/>
            </a:xfrm>
          </p:grpSpPr>
          <p:sp>
            <p:nvSpPr>
              <p:cNvPr id="138" name="Rectangle 36"/>
              <p:cNvSpPr/>
              <p:nvPr/>
            </p:nvSpPr>
            <p:spPr>
              <a:xfrm>
                <a:off x="203040" y="3013200"/>
                <a:ext cx="7608240" cy="977040"/>
              </a:xfrm>
              <a:prstGeom prst="rect">
                <a:avLst/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37"/>
              <p:cNvSpPr/>
              <p:nvPr/>
            </p:nvSpPr>
            <p:spPr>
              <a:xfrm rot="5400000">
                <a:off x="7585920" y="3069720"/>
                <a:ext cx="1169640" cy="8784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 Box 38"/>
            <p:cNvSpPr/>
            <p:nvPr/>
          </p:nvSpPr>
          <p:spPr>
            <a:xfrm>
              <a:off x="609120" y="322704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d9d9d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d9d9d9"/>
                  </a:solidFill>
                  <a:latin typeface="Arial"/>
                </a:rPr>
                <a:t>Inquiry 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"/>
          <p:cNvGrpSpPr/>
          <p:nvPr/>
        </p:nvGrpSpPr>
        <p:grpSpPr>
          <a:xfrm>
            <a:off x="203040" y="4135320"/>
            <a:ext cx="8432280" cy="1169640"/>
            <a:chOff x="203040" y="4135320"/>
            <a:chExt cx="8432280" cy="1169640"/>
          </a:xfrm>
        </p:grpSpPr>
        <p:grpSp>
          <p:nvGrpSpPr>
            <p:cNvPr id="142" name="Group 29"/>
            <p:cNvGrpSpPr/>
            <p:nvPr/>
          </p:nvGrpSpPr>
          <p:grpSpPr>
            <a:xfrm>
              <a:off x="203040" y="4135320"/>
              <a:ext cx="8432280" cy="1169640"/>
              <a:chOff x="203040" y="4135320"/>
              <a:chExt cx="8432280" cy="1169640"/>
            </a:xfrm>
          </p:grpSpPr>
          <p:sp>
            <p:nvSpPr>
              <p:cNvPr id="143" name="Rectangle 30"/>
              <p:cNvSpPr/>
              <p:nvPr/>
            </p:nvSpPr>
            <p:spPr>
              <a:xfrm>
                <a:off x="203040" y="4224240"/>
                <a:ext cx="7631280" cy="977040"/>
              </a:xfrm>
              <a:prstGeom prst="rect">
                <a:avLst/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31"/>
              <p:cNvSpPr/>
              <p:nvPr/>
            </p:nvSpPr>
            <p:spPr>
              <a:xfrm rot="5400000">
                <a:off x="7610040" y="4279680"/>
                <a:ext cx="116964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65e2f"/>
                  </a:gs>
                  <a:gs pos="50000">
                    <a:srgbClr val="ffcc66"/>
                  </a:gs>
                  <a:gs pos="100000">
                    <a:srgbClr val="765e2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39"/>
            <p:cNvSpPr/>
            <p:nvPr/>
          </p:nvSpPr>
          <p:spPr>
            <a:xfrm>
              <a:off x="711000" y="443808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161645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161645"/>
                  </a:solidFill>
                  <a:latin typeface="Arial"/>
                </a:rPr>
                <a:t>History and Nature of Sc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1"/>
          <p:cNvGrpSpPr/>
          <p:nvPr/>
        </p:nvGrpSpPr>
        <p:grpSpPr>
          <a:xfrm>
            <a:off x="203040" y="5348160"/>
            <a:ext cx="8432280" cy="1211040"/>
            <a:chOff x="203040" y="5348160"/>
            <a:chExt cx="8432280" cy="1211040"/>
          </a:xfrm>
        </p:grpSpPr>
        <p:grpSp>
          <p:nvGrpSpPr>
            <p:cNvPr id="147" name="Group 32"/>
            <p:cNvGrpSpPr/>
            <p:nvPr/>
          </p:nvGrpSpPr>
          <p:grpSpPr>
            <a:xfrm>
              <a:off x="203040" y="5348160"/>
              <a:ext cx="8432280" cy="1211040"/>
              <a:chOff x="203040" y="5348160"/>
              <a:chExt cx="8432280" cy="1211040"/>
            </a:xfrm>
          </p:grpSpPr>
          <p:sp>
            <p:nvSpPr>
              <p:cNvPr id="148" name="Rectangle 33"/>
              <p:cNvSpPr/>
              <p:nvPr/>
            </p:nvSpPr>
            <p:spPr>
              <a:xfrm>
                <a:off x="203040" y="5439960"/>
                <a:ext cx="7631280" cy="1011600"/>
              </a:xfrm>
              <a:prstGeom prst="rect">
                <a:avLst/>
              </a:prstGeom>
              <a:gradFill rotWithShape="0">
                <a:gsLst>
                  <a:gs pos="0">
                    <a:srgbClr val="181847"/>
                  </a:gs>
                  <a:gs pos="50000">
                    <a:srgbClr val="333399"/>
                  </a:gs>
                  <a:gs pos="100000">
                    <a:srgbClr val="18184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34"/>
              <p:cNvSpPr/>
              <p:nvPr/>
            </p:nvSpPr>
            <p:spPr>
              <a:xfrm rot="5400000">
                <a:off x="7589160" y="5513040"/>
                <a:ext cx="121104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81847"/>
                  </a:gs>
                  <a:gs pos="50000">
                    <a:srgbClr val="333399"/>
                  </a:gs>
                  <a:gs pos="100000">
                    <a:srgbClr val="18184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40"/>
            <p:cNvSpPr/>
            <p:nvPr/>
          </p:nvSpPr>
          <p:spPr>
            <a:xfrm>
              <a:off x="711000" y="5650920"/>
              <a:ext cx="6782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ersonal and Social Persp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0"/>
          <p:cNvGrpSpPr/>
          <p:nvPr/>
        </p:nvGrpSpPr>
        <p:grpSpPr>
          <a:xfrm>
            <a:off x="203040" y="1712880"/>
            <a:ext cx="8432280" cy="1109160"/>
            <a:chOff x="203040" y="1712880"/>
            <a:chExt cx="8432280" cy="1109160"/>
          </a:xfrm>
        </p:grpSpPr>
        <p:grpSp>
          <p:nvGrpSpPr>
            <p:cNvPr id="152" name="Group 43"/>
            <p:cNvGrpSpPr/>
            <p:nvPr/>
          </p:nvGrpSpPr>
          <p:grpSpPr>
            <a:xfrm>
              <a:off x="203040" y="1712880"/>
              <a:ext cx="8432280" cy="1109160"/>
              <a:chOff x="203040" y="1712880"/>
              <a:chExt cx="8432280" cy="1109160"/>
            </a:xfrm>
          </p:grpSpPr>
          <p:sp>
            <p:nvSpPr>
              <p:cNvPr id="153" name="Rectangle 44"/>
              <p:cNvSpPr/>
              <p:nvPr/>
            </p:nvSpPr>
            <p:spPr>
              <a:xfrm>
                <a:off x="203040" y="1797120"/>
                <a:ext cx="7631280" cy="926640"/>
              </a:xfrm>
              <a:prstGeom prst="rect">
                <a:avLst/>
              </a:prstGeom>
              <a:gradFill rotWithShape="0">
                <a:gsLst>
                  <a:gs pos="0">
                    <a:srgbClr val="373737"/>
                  </a:gs>
                  <a:gs pos="50000">
                    <a:srgbClr val="777777"/>
                  </a:gs>
                  <a:gs pos="100000">
                    <a:srgbClr val="37373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45"/>
              <p:cNvSpPr/>
              <p:nvPr/>
            </p:nvSpPr>
            <p:spPr>
              <a:xfrm rot="5400000">
                <a:off x="7640280" y="1827000"/>
                <a:ext cx="1109160" cy="880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77777"/>
                  </a:gs>
                  <a:gs pos="100000">
                    <a:srgbClr val="37373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Rectangle 47"/>
            <p:cNvSpPr/>
            <p:nvPr/>
          </p:nvSpPr>
          <p:spPr>
            <a:xfrm>
              <a:off x="2032920" y="2015280"/>
              <a:ext cx="35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Science and Techn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04920" y="1611360"/>
            <a:ext cx="7619760" cy="5756400"/>
            <a:chOff x="304920" y="1611360"/>
            <a:chExt cx="7619760" cy="5756400"/>
          </a:xfrm>
        </p:grpSpPr>
        <p:sp>
          <p:nvSpPr>
            <p:cNvPr id="157" name="AutoShape 48"/>
            <p:cNvSpPr/>
            <p:nvPr/>
          </p:nvSpPr>
          <p:spPr>
            <a:xfrm>
              <a:off x="304920" y="1611360"/>
              <a:ext cx="7619760" cy="5756400"/>
            </a:xfrm>
            <a:prstGeom prst="lightningBolt">
              <a:avLst/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9"/>
            <p:cNvSpPr/>
            <p:nvPr/>
          </p:nvSpPr>
          <p:spPr>
            <a:xfrm rot="2314200">
              <a:off x="2039040" y="3667320"/>
              <a:ext cx="4315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ahoma"/>
                </a:rPr>
                <a:t>BIG  IDEA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EA13-B802-425E-8F47-A13754D5C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dea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838080" y="1523880"/>
            <a:ext cx="7391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 science topic is taught is more important than the topic it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Understanding concepts in science is more than learning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2B52-4136-4012-AE79-BF5801B24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914400" y="18288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B9F3-6039-4038-9812-AD492CC6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2540160" y="198360"/>
            <a:ext cx="6146640" cy="3837240"/>
          </a:xfrm>
          <a:prstGeom prst="downArrowCallout">
            <a:avLst>
              <a:gd name="adj1" fmla="val 42245"/>
              <a:gd name="adj2" fmla="val 45830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587E-0FA5-458E-9BE5-C0BFF34C2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762120" y="129528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Is teaching students to only name the parts of a plant teaching the big id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could you structure instruction on plants so that you are teaching to a big idea or id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3792-D1A4-4C40-B410-87E79657E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533520" y="121932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What are the Big Ideas of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do these ideas support the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re science and mathematics conn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359A-A7C6-411B-AE0E-71DD02C7E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2540160" y="298440"/>
            <a:ext cx="6146640" cy="3332160"/>
          </a:xfrm>
          <a:prstGeom prst="downArrowCallout">
            <a:avLst>
              <a:gd name="adj1" fmla="val 42260"/>
              <a:gd name="adj2" fmla="val 45834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lect important scientific proces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2540160" y="3732120"/>
            <a:ext cx="6146640" cy="2924280"/>
          </a:xfrm>
          <a:prstGeom prst="downArrowCallout">
            <a:avLst>
              <a:gd name="adj1" fmla="val 48154"/>
              <a:gd name="adj2" fmla="val 52227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plore theme and big idea. They should mutually inform one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D876-16DA-473E-9B25-1A0D66CEA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533520" y="121932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Think of your choice of a Big Idea to teach, what theme might be appropri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hoose a theme at your table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8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E444-8003-4CF0-AEA8-46B8AE924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33520" y="1219320"/>
            <a:ext cx="739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What are the Big Ideas of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do these ideas support the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ow are science and mathematics conn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4F8B-E744-4C17-9D2F-54241A59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 flipH="1" rot="10800000">
            <a:off x="506520" y="198360"/>
            <a:ext cx="16765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540160" y="198360"/>
            <a:ext cx="6146640" cy="2422440"/>
          </a:xfrm>
          <a:prstGeom prst="downArrowCallout">
            <a:avLst>
              <a:gd name="adj1" fmla="val 58130"/>
              <a:gd name="adj2" fmla="val 63046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Big Idea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it that you want students to know and be abl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 scientif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438280" y="2722680"/>
            <a:ext cx="6147000" cy="2019240"/>
          </a:xfrm>
          <a:prstGeom prst="downArrowCallout">
            <a:avLst>
              <a:gd name="adj1" fmla="val 69741"/>
              <a:gd name="adj2" fmla="val 75640"/>
              <a:gd name="adj3" fmla="val 12778"/>
              <a:gd name="adj4" fmla="val 80472"/>
            </a:avLst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 T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ing theme and big idea from science should mutually infor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438280" y="4843440"/>
            <a:ext cx="6147000" cy="1859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nect Mathematics and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EB9B-FF2F-44AB-976B-541582257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 flipH="1" rot="10800000">
            <a:off x="304560" y="198360"/>
            <a:ext cx="1473120" cy="6453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43360" rIns="121680" tIns="60840" bIns="6084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ahoma"/>
              </a:rPr>
              <a:t>Standard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031840" y="198360"/>
            <a:ext cx="6807240" cy="646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99"/>
            </a:solidFill>
            <a:miter/>
          </a:ln>
          <a:effectLst>
            <a:outerShdw dist="17819" dir="2700000" blurRad="0" rotWithShape="0">
              <a:srgbClr val="0000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nnect Mathematics                           and Sc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Select an application of a mathematical concept that can be integrated into this science learning exper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Content must be important to the study of mathema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800000"/>
                </a:solidFill>
                <a:latin typeface="Tahoma"/>
              </a:rPr>
              <a:t>Examples: estimation, number sense, operations, fractions and decimals, geometry, measurement, data analysis, statistics, probability, patterns, functions, and algeb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5036-F781-4D34-985B-AAA5DBBB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xample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533520" y="1219320"/>
            <a:ext cx="7391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ased on your choice of a big idea and theme to teach, what might be a powerful connection to mathema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Choose a mathematics focus at your table to sh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BD04924_"/>
          <p:cNvPicPr/>
          <p:nvPr/>
        </p:nvPicPr>
        <p:blipFill>
          <a:blip r:embed="rId2"/>
          <a:stretch/>
        </p:blipFill>
        <p:spPr>
          <a:xfrm rot="1053000">
            <a:off x="7175160" y="4354560"/>
            <a:ext cx="1282680" cy="1295280"/>
          </a:xfrm>
          <a:prstGeom prst="rect">
            <a:avLst/>
          </a:prstGeom>
          <a:ln w="0">
            <a:noFill/>
          </a:ln>
        </p:spPr>
      </p:pic>
      <p:sp>
        <p:nvSpPr>
          <p:cNvPr id="20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8297-001F-49F1-9E17-79994B42C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nthesizing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2057400" y="4648320"/>
            <a:ext cx="52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 3"/>
          <p:cNvSpPr/>
          <p:nvPr/>
        </p:nvSpPr>
        <p:spPr>
          <a:xfrm>
            <a:off x="2171880" y="1852560"/>
            <a:ext cx="4800600" cy="3000600"/>
          </a:xfrm>
          <a:prstGeom prst="pie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2781360" y="3948120"/>
            <a:ext cx="125280" cy="123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3"/>
          <p:cNvGrpSpPr/>
          <p:nvPr/>
        </p:nvGrpSpPr>
        <p:grpSpPr>
          <a:xfrm>
            <a:off x="2843280" y="4010040"/>
            <a:ext cx="1119240" cy="866880"/>
            <a:chOff x="2843280" y="4010040"/>
            <a:chExt cx="1119240" cy="866880"/>
          </a:xfrm>
        </p:grpSpPr>
        <p:sp>
          <p:nvSpPr>
            <p:cNvPr id="213" name="Rectangle 24"/>
            <p:cNvSpPr/>
            <p:nvPr/>
          </p:nvSpPr>
          <p:spPr>
            <a:xfrm>
              <a:off x="2843280" y="4010040"/>
              <a:ext cx="11192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5"/>
            <p:cNvSpPr/>
            <p:nvPr/>
          </p:nvSpPr>
          <p:spPr>
            <a:xfrm>
              <a:off x="2843280" y="4010040"/>
              <a:ext cx="11192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16"/>
          <p:cNvSpPr/>
          <p:nvPr/>
        </p:nvSpPr>
        <p:spPr>
          <a:xfrm>
            <a:off x="3882960" y="3132000"/>
            <a:ext cx="225360" cy="225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3371760" y="3376440"/>
            <a:ext cx="2400480" cy="1368720"/>
            <a:chOff x="3371760" y="3376440"/>
            <a:chExt cx="2400480" cy="1368720"/>
          </a:xfrm>
        </p:grpSpPr>
        <p:sp>
          <p:nvSpPr>
            <p:cNvPr id="217" name="Rectangle 22"/>
            <p:cNvSpPr/>
            <p:nvPr/>
          </p:nvSpPr>
          <p:spPr>
            <a:xfrm>
              <a:off x="3371760" y="3376440"/>
              <a:ext cx="240048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3371760" y="3376440"/>
              <a:ext cx="240048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52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Oval 18"/>
          <p:cNvSpPr/>
          <p:nvPr/>
        </p:nvSpPr>
        <p:spPr>
          <a:xfrm>
            <a:off x="5448240" y="2614680"/>
            <a:ext cx="312840" cy="312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9"/>
          <p:cNvGrpSpPr/>
          <p:nvPr/>
        </p:nvGrpSpPr>
        <p:grpSpPr>
          <a:xfrm>
            <a:off x="5335560" y="2919240"/>
            <a:ext cx="1636920" cy="2086200"/>
            <a:chOff x="5335560" y="2919240"/>
            <a:chExt cx="1636920" cy="2086200"/>
          </a:xfrm>
        </p:grpSpPr>
        <p:sp>
          <p:nvSpPr>
            <p:cNvPr id="221" name="Rectangle 20"/>
            <p:cNvSpPr/>
            <p:nvPr/>
          </p:nvSpPr>
          <p:spPr>
            <a:xfrm>
              <a:off x="5335560" y="2919240"/>
              <a:ext cx="1636920" cy="20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5335560" y="2919240"/>
              <a:ext cx="1636920" cy="20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524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Slide Number Placeholder 2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91F0-A3AB-4FC0-9FDB-866464C23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914400" y="1828800"/>
            <a:ext cx="6781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Big Ideas of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science and mathematics conn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these ideas support the t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CE0F-92D1-4014-9349-1E14C6D7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914400" y="18288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Big Ideas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how the Big Ideas impact teaching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B9ED-2C6C-424B-B06C-7AB32053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2057400" y="4648320"/>
            <a:ext cx="5257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3581280" y="2666880"/>
            <a:ext cx="1752480" cy="1523880"/>
            <a:chOff x="3581280" y="2666880"/>
            <a:chExt cx="1752480" cy="1523880"/>
          </a:xfrm>
        </p:grpSpPr>
        <p:sp>
          <p:nvSpPr>
            <p:cNvPr id="234" name="Freeform 5"/>
            <p:cNvSpPr/>
            <p:nvPr/>
          </p:nvSpPr>
          <p:spPr>
            <a:xfrm>
              <a:off x="4106520" y="2942280"/>
              <a:ext cx="708120" cy="97704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4146120" y="2981880"/>
              <a:ext cx="629280" cy="6832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4375800" y="3715560"/>
              <a:ext cx="201600" cy="155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3581280" y="2666880"/>
              <a:ext cx="1752480" cy="1523880"/>
            </a:xfrm>
            <a:prstGeom prst="pie">
              <a:avLst/>
            </a:prstGeom>
            <a:solidFill>
              <a:srgbClr val="0000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3630960" y="2692080"/>
              <a:ext cx="1658880" cy="1463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Slide Number Placeholder 3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7E83-3DF7-4A03-B53A-EA28D8812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4932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564840" cy="1244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0" y="3230640"/>
            <a:ext cx="9448920" cy="12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questions could be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investigated about the box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07960" y="4645080"/>
            <a:ext cx="86360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is your plan for investigation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09480" y="5452920"/>
            <a:ext cx="8534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Arial"/>
              </a:rPr>
              <a:t>What data do you need to collect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FD5E-5908-4EAC-8F0C-FC8549E8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914400" y="1828800"/>
            <a:ext cx="678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students learn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would you describe a classroom where students are actively engaged in learning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Group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DB9-96D4-4CBD-B7BC-11B53F02C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914400" y="1509840"/>
            <a:ext cx="227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3454560" y="1509840"/>
            <a:ext cx="226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Sound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5994360" y="1509840"/>
            <a:ext cx="22986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Feel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2116080"/>
          <a:ext cx="7238880" cy="4140360"/>
        </p:xfrm>
        <a:graphic>
          <a:graphicData uri="http://schemas.openxmlformats.org/drawingml/2006/table">
            <a:tbl>
              <a:tblPr/>
              <a:tblGrid>
                <a:gridCol w="2413080"/>
                <a:gridCol w="2413080"/>
                <a:gridCol w="241272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C:\Documents and Settings\mknuck\Local Settings\Temporary Internet Files\Content.IE5\VFWXN81O\MCj04136180000[1].wmf"/>
          <p:cNvPicPr/>
          <p:nvPr/>
        </p:nvPicPr>
        <p:blipFill>
          <a:blip r:embed="rId1"/>
          <a:stretch/>
        </p:blipFill>
        <p:spPr>
          <a:xfrm>
            <a:off x="203040" y="198360"/>
            <a:ext cx="1651320" cy="126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knuck\Local Settings\Temporary Internet Files\Content.IE5\VFWXN81O\MCj02381920000[1].wmf"/>
          <p:cNvPicPr/>
          <p:nvPr/>
        </p:nvPicPr>
        <p:blipFill>
          <a:blip r:embed="rId2"/>
          <a:stretch/>
        </p:blipFill>
        <p:spPr>
          <a:xfrm>
            <a:off x="7823160" y="198360"/>
            <a:ext cx="963720" cy="14652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E144-3837-4961-994A-4FFFF1AB2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838080" y="1447920"/>
            <a:ext cx="678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qu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k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ing and describing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scientific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90512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learn science b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DB88-346D-4B65-95D2-FAB66004B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5720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About How Students Lea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ow People Learn"/>
          <p:cNvPicPr/>
          <p:nvPr/>
        </p:nvPicPr>
        <p:blipFill>
          <a:blip r:embed="rId2"/>
          <a:stretch/>
        </p:blipFill>
        <p:spPr>
          <a:xfrm>
            <a:off x="2057400" y="1676520"/>
            <a:ext cx="1560600" cy="21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How Students Learn Mathematics"/>
          <p:cNvPicPr/>
          <p:nvPr/>
        </p:nvPicPr>
        <p:blipFill>
          <a:blip r:embed="rId3"/>
          <a:stretch/>
        </p:blipFill>
        <p:spPr>
          <a:xfrm>
            <a:off x="5181480" y="1676520"/>
            <a:ext cx="1517760" cy="2184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7"/>
          <p:cNvSpPr/>
          <p:nvPr/>
        </p:nvSpPr>
        <p:spPr>
          <a:xfrm>
            <a:off x="1523880" y="4191120"/>
            <a:ext cx="6096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ttp://books.nap.edu/catalog/985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http://www.nap.edu/books/0309089492/htm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1D15-B889-4F35-BA9D-76E0B9DB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43000" y="1447920"/>
            <a:ext cx="5791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00200" y="3962520"/>
            <a:ext cx="5486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457200" y="380880"/>
            <a:ext cx="83059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523880" y="4191120"/>
            <a:ext cx="609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905120" y="2286000"/>
            <a:ext cx="48765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Fish is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iley Sans ITC Book"/>
                <a:ea typeface="Bailey Sans ITC Book"/>
              </a:rPr>
              <a:t>Leo Lion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D6C4-BBCF-46B0-9CB7-633ACEB94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43:47Z</dcterms:created>
  <dc:creator>CC</dc:creator>
  <dc:description/>
  <dc:language>en-US</dc:language>
  <cp:lastModifiedBy>Taryl Hargens</cp:lastModifiedBy>
  <cp:lastPrinted>2009-05-26T19:43:40Z</cp:lastPrinted>
  <dcterms:modified xsi:type="dcterms:W3CDTF">2009-05-26T19:51:55Z</dcterms:modified>
  <cp:revision>38</cp:revision>
  <dc:subject/>
  <dc:title>PowerPoint Presentation</dc:title>
</cp:coreProperties>
</file>